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4.png" ContentType="image/png"/>
  <Override PartName="/ppt/media/image25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20.png" ContentType="image/png"/>
  <Override PartName="/ppt/media/image2.jpeg" ContentType="image/jpeg"/>
  <Override PartName="/ppt/media/image16.jpeg" ContentType="image/jpeg"/>
  <Override PartName="/ppt/media/image15.jpeg" ContentType="image/jpeg"/>
  <Override PartName="/ppt/media/image3.png" ContentType="image/png"/>
  <Override PartName="/ppt/media/image17.jpeg" ContentType="image/jpe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C40F4-AD97-41A8-A267-E338A06A1BE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CC754-9598-4E1F-B392-1735223C709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28B2-FF06-4107-AA7B-63966A5E4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813B-908E-46B4-950C-B14008A51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9FAA-B440-4C3B-B0E0-6D2D9B275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87DA-994B-4432-BD6C-DB80CEFD1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61BD-D87F-4210-9682-1020FC566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55A7-ADE8-47E3-938B-ABA2AC198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08C7-8337-4D7D-ABF0-6A866B473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6B52-C303-47F9-BE9C-BE96CFDC8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AEEB-F022-485B-80B7-2C668BDC7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9DC3-F69B-4DDF-B579-D379B6CB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0B17-2930-4AD3-8737-24552133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F745-A54C-487B-A6A7-1D030174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1D7E2-5896-4B0A-92E8-B10623833B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Ната\Desktop\Фоны осень\fon-dlya-prezentacii-osen-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49" name="Заголовок 1"/>
          <p:cNvSpPr/>
          <p:nvPr/>
        </p:nvSpPr>
        <p:spPr>
          <a:xfrm>
            <a:off x="2556000" y="189000"/>
            <a:ext cx="658800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4807"/>
                </a:solidFill>
                <a:latin typeface="Calibri"/>
              </a:rPr>
              <a:t>Презентация опыта работы п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4807"/>
                </a:solidFill>
                <a:latin typeface="Calibri"/>
              </a:rPr>
              <a:t>авторской педагогической разработ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4807"/>
                </a:solidFill>
                <a:latin typeface="Calibri"/>
              </a:rPr>
              <a:t>Беклемешевой Н.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Заголовок 1"/>
          <p:cNvSpPr/>
          <p:nvPr/>
        </p:nvSpPr>
        <p:spPr>
          <a:xfrm>
            <a:off x="755640" y="1989000"/>
            <a:ext cx="7772400" cy="20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Дополнительная образовательная програм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«Путешествие в страну Поэтику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C:\Users\Ната\Desktop\Фоны осень\img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Заголовок 1"/>
          <p:cNvSpPr/>
          <p:nvPr/>
        </p:nvSpPr>
        <p:spPr>
          <a:xfrm>
            <a:off x="468360" y="0"/>
            <a:ext cx="8424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Мои воспитан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Для показа видеосюжета  нужно кликнуть мышкой по изображени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24000" y="5657760"/>
            <a:ext cx="86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В 2016-17 учебном году мои ученики стали пятиклассниками. Но все они продолжают любить поэзию и с удовольствием помогают  тем, кто делает первые шаги в нашем объедин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VideoSeq-02.10.2017--11.45.15.wmv" descr=""/>
          <p:cNvPicPr/>
          <p:nvPr/>
        </p:nvPicPr>
        <p:blipFill>
          <a:blip r:embed="rId2"/>
          <a:stretch/>
        </p:blipFill>
        <p:spPr>
          <a:xfrm>
            <a:off x="5219640" y="981000"/>
            <a:ext cx="3552840" cy="2664000"/>
          </a:xfrm>
          <a:prstGeom prst="rect">
            <a:avLst/>
          </a:prstGeom>
          <a:ln w="0">
            <a:noFill/>
          </a:ln>
        </p:spPr>
      </p:pic>
      <p:pic>
        <p:nvPicPr>
          <p:cNvPr id="117" name="VideoSeq-02.10.2017--11.50.11.wmv" descr=""/>
          <p:cNvPicPr/>
          <p:nvPr/>
        </p:nvPicPr>
        <p:blipFill>
          <a:blip r:embed="rId3"/>
          <a:stretch/>
        </p:blipFill>
        <p:spPr>
          <a:xfrm>
            <a:off x="324000" y="981000"/>
            <a:ext cx="3551040" cy="2664000"/>
          </a:xfrm>
          <a:prstGeom prst="rect">
            <a:avLst/>
          </a:prstGeom>
          <a:ln w="0">
            <a:noFill/>
          </a:ln>
        </p:spPr>
      </p:pic>
      <p:pic>
        <p:nvPicPr>
          <p:cNvPr id="118" name="VideoSeq-02.10.2017--11.54.59.wmv" descr=""/>
          <p:cNvPicPr/>
          <p:nvPr/>
        </p:nvPicPr>
        <p:blipFill>
          <a:blip r:embed="rId4"/>
          <a:stretch/>
        </p:blipFill>
        <p:spPr>
          <a:xfrm>
            <a:off x="2987640" y="3284640"/>
            <a:ext cx="3336840" cy="2501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"/>
          <p:cNvPicPr/>
          <p:nvPr/>
        </p:nvPicPr>
        <p:blipFill>
          <a:blip r:embed="rId5"/>
          <a:stretch/>
        </p:blipFill>
        <p:spPr>
          <a:xfrm>
            <a:off x="3492360" y="1052640"/>
            <a:ext cx="2082960" cy="143964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pic>
        <p:nvPicPr>
          <p:cNvPr id="120" name="Picture 2" descr=""/>
          <p:cNvPicPr/>
          <p:nvPr/>
        </p:nvPicPr>
        <p:blipFill>
          <a:blip r:embed="rId6"/>
          <a:stretch/>
        </p:blipFill>
        <p:spPr>
          <a:xfrm>
            <a:off x="7093080" y="3429000"/>
            <a:ext cx="1655640" cy="216072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pic>
        <p:nvPicPr>
          <p:cNvPr id="121" name="Picture 4" descr=""/>
          <p:cNvPicPr/>
          <p:nvPr/>
        </p:nvPicPr>
        <p:blipFill>
          <a:blip r:embed="rId7"/>
          <a:stretch/>
        </p:blipFill>
        <p:spPr>
          <a:xfrm>
            <a:off x="324000" y="3429000"/>
            <a:ext cx="1726920" cy="219240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14" nodeType="clickEffect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9" nodeType="clickEffect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24" nodeType="clickEffect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Users\Ната\Desktop\Фоны осень\img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Box 2"/>
          <p:cNvSpPr/>
          <p:nvPr/>
        </p:nvSpPr>
        <p:spPr>
          <a:xfrm>
            <a:off x="3564000" y="189000"/>
            <a:ext cx="51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Для интеллигентного человека дурно говорить должно считаться таким же неприличным, как не уметь читать и пис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А.П. Чехо</a:t>
            </a:r>
            <a:r>
              <a:rPr b="1" i="1" lang="ru-RU" sz="1800" spc="-1" strike="noStrike">
                <a:solidFill>
                  <a:srgbClr val="984807"/>
                </a:solidFill>
                <a:latin typeface="Calibri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237960" y="1433520"/>
            <a:ext cx="699156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ма по самообразованию: «Развитие творческого мышления обучающихся младших классо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266760" y="2516040"/>
            <a:ext cx="7273800" cy="1557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чь – основа всякой умственной деятельности. Следовательно,  моя цель: научить своих учеников практическому владению словом, привить любовь и уважение к язы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2795760" y="5732640"/>
            <a:ext cx="583236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здание авторской 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Путешествие в страну  Поэтик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Заголовок 1"/>
          <p:cNvSpPr/>
          <p:nvPr/>
        </p:nvSpPr>
        <p:spPr>
          <a:xfrm>
            <a:off x="0" y="189000"/>
            <a:ext cx="3348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Идея создания програм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Выгнутая вправо стрелка 9"/>
          <p:cNvSpPr/>
          <p:nvPr/>
        </p:nvSpPr>
        <p:spPr>
          <a:xfrm rot="20797800">
            <a:off x="7456320" y="1520640"/>
            <a:ext cx="827280" cy="1635120"/>
          </a:xfrm>
          <a:custGeom>
            <a:avLst/>
            <a:gdLst>
              <a:gd name="textAreaLeft" fmla="*/ 110880 w 827280"/>
              <a:gd name="textAreaRight" fmla="*/ 716400 w 827280"/>
              <a:gd name="textAreaTop" fmla="*/ 331200 h 1635120"/>
              <a:gd name="textAreaBottom" fmla="*/ 1200600 h 163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752" stAng="-5400000" swAng="5400000"/>
                <a:lnTo>
                  <a:pt x="21600" y="11483"/>
                </a:lnTo>
                <a:arcTo wR="21600" hR="8752" stAng="0" swAng="3449504"/>
                <a:lnTo>
                  <a:pt x="5400" y="21322"/>
                </a:lnTo>
                <a:lnTo>
                  <a:pt x="0" y="18869"/>
                </a:lnTo>
                <a:lnTo>
                  <a:pt x="5400" y="15859"/>
                </a:lnTo>
                <a:lnTo>
                  <a:pt x="5400" y="17225"/>
                </a:lnTo>
                <a:arcTo wR="21600" hR="8752" stAng="3449504" swAng="-3229783"/>
                <a:lnTo>
                  <a:pt x="21335" y="10117"/>
                </a:lnTo>
                <a:arcTo wR="21600" hR="8752" stAng="-219721" swAng="-5180279"/>
                <a:close/>
              </a:path>
              <a:path fill="darkenLess" w="21600" h="21600">
                <a:moveTo>
                  <a:pt x="0" y="0"/>
                </a:moveTo>
                <a:arcTo wR="21600" hR="8752" stAng="-5400000" swAng="5400000"/>
                <a:lnTo>
                  <a:pt x="21600" y="11483"/>
                </a:lnTo>
                <a:arcTo wR="21600" hR="8752" stAng="0" swAng="-219721"/>
                <a:lnTo>
                  <a:pt x="21335" y="10117"/>
                </a:lnTo>
                <a:arcTo wR="21600" hR="8752" stAng="-219721" swAng="-5180279"/>
                <a:close/>
              </a:path>
            </a:pathLst>
          </a:cu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https://i.mycdn.me/image?t=3&amp;bid=850679629784&amp;id=850679629784&amp;plc=WEB&amp;tkn=*LUywi7YThAnDNQojBDIu9h88WPo"/>
          <p:cNvPicPr/>
          <p:nvPr/>
        </p:nvPicPr>
        <p:blipFill>
          <a:blip r:embed="rId2"/>
          <a:stretch/>
        </p:blipFill>
        <p:spPr>
          <a:xfrm>
            <a:off x="208080" y="4511520"/>
            <a:ext cx="2455920" cy="2194200"/>
          </a:xfrm>
          <a:prstGeom prst="rect">
            <a:avLst/>
          </a:prstGeom>
          <a:ln w="0">
            <a:noFill/>
          </a:ln>
        </p:spPr>
      </p:pic>
      <p:sp>
        <p:nvSpPr>
          <p:cNvPr id="59" name="TextBox 13"/>
          <p:cNvSpPr/>
          <p:nvPr/>
        </p:nvSpPr>
        <p:spPr>
          <a:xfrm>
            <a:off x="1927080" y="4330800"/>
            <a:ext cx="670428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дейный вдохновитель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изатулина Ольга Александровна,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дагог дополнительного образования  МБОУ «Гимназия №1 г. Ангарс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Выгнутая вправо стрелка 14"/>
          <p:cNvSpPr/>
          <p:nvPr/>
        </p:nvSpPr>
        <p:spPr>
          <a:xfrm rot="21432600">
            <a:off x="8405640" y="5200560"/>
            <a:ext cx="627120" cy="1365480"/>
          </a:xfrm>
          <a:custGeom>
            <a:avLst/>
            <a:gdLst>
              <a:gd name="textAreaLeft" fmla="*/ 83880 w 627120"/>
              <a:gd name="textAreaRight" fmla="*/ 543240 w 627120"/>
              <a:gd name="textAreaTop" fmla="*/ 282600 h 1365480"/>
              <a:gd name="textAreaBottom" fmla="*/ 1004760 h 136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940" stAng="-5400000" swAng="5400000"/>
                <a:lnTo>
                  <a:pt x="21600" y="11420"/>
                </a:lnTo>
                <a:arcTo wR="21600" hR="8940" stAng="0" swAng="3482555"/>
                <a:lnTo>
                  <a:pt x="5400" y="21316"/>
                </a:lnTo>
                <a:lnTo>
                  <a:pt x="0" y="19120"/>
                </a:lnTo>
                <a:lnTo>
                  <a:pt x="5400" y="16356"/>
                </a:lnTo>
                <a:lnTo>
                  <a:pt x="5400" y="17596"/>
                </a:lnTo>
                <a:arcTo wR="21600" hR="8940" stAng="3482555" swAng="-3283500"/>
                <a:lnTo>
                  <a:pt x="21391" y="10180"/>
                </a:lnTo>
                <a:arcTo wR="21600" hR="8940" stAng="-199056" swAng="-5200944"/>
                <a:close/>
              </a:path>
              <a:path fill="darkenLess" w="21600" h="21600">
                <a:moveTo>
                  <a:pt x="0" y="0"/>
                </a:moveTo>
                <a:arcTo wR="21600" hR="8940" stAng="-5400000" swAng="5400000"/>
                <a:lnTo>
                  <a:pt x="21600" y="11420"/>
                </a:lnTo>
                <a:arcTo wR="21600" hR="8940" stAng="0" swAng="-199056"/>
                <a:lnTo>
                  <a:pt x="21391" y="10180"/>
                </a:lnTo>
                <a:arcTo wR="21600" hR="8940" stAng="-199056" swAng="-5200944"/>
                <a:close/>
              </a:path>
            </a:pathLst>
          </a:cu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Выгнутая вправо стрелка 11"/>
          <p:cNvSpPr/>
          <p:nvPr/>
        </p:nvSpPr>
        <p:spPr>
          <a:xfrm rot="19690200">
            <a:off x="8147160" y="3123720"/>
            <a:ext cx="790560" cy="1800360"/>
          </a:xfrm>
          <a:custGeom>
            <a:avLst/>
            <a:gdLst>
              <a:gd name="textAreaLeft" fmla="*/ 105840 w 790560"/>
              <a:gd name="textAreaRight" fmla="*/ 684720 w 790560"/>
              <a:gd name="textAreaTop" fmla="*/ 375840 h 1800360"/>
              <a:gd name="textAreaBottom" fmla="*/ 132552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022" stAng="-5400000" swAng="5400000"/>
                <a:lnTo>
                  <a:pt x="21600" y="11393"/>
                </a:lnTo>
                <a:arcTo wR="21600" hR="9022" stAng="0" swAng="3496537"/>
                <a:lnTo>
                  <a:pt x="5400" y="21314"/>
                </a:lnTo>
                <a:lnTo>
                  <a:pt x="0" y="19229"/>
                </a:lnTo>
                <a:lnTo>
                  <a:pt x="5400" y="16571"/>
                </a:lnTo>
                <a:lnTo>
                  <a:pt x="5400" y="17757"/>
                </a:lnTo>
                <a:arcTo wR="21600" hR="9022" stAng="3496537" swAng="-3306403"/>
                <a:lnTo>
                  <a:pt x="21413" y="10207"/>
                </a:lnTo>
                <a:arcTo wR="21600" hR="9022" stAng="-190135" swAng="-5209865"/>
                <a:close/>
              </a:path>
              <a:path fill="darkenLess" w="21600" h="21600">
                <a:moveTo>
                  <a:pt x="0" y="0"/>
                </a:moveTo>
                <a:arcTo wR="21600" hR="9022" stAng="-5400000" swAng="5400000"/>
                <a:lnTo>
                  <a:pt x="21600" y="11393"/>
                </a:lnTo>
                <a:arcTo wR="21600" hR="9022" stAng="0" swAng="-190135"/>
                <a:lnTo>
                  <a:pt x="21413" y="10207"/>
                </a:lnTo>
                <a:arcTo wR="21600" hR="9022" stAng="-190135" swAng="-5209865"/>
                <a:close/>
              </a:path>
            </a:pathLst>
          </a:cu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Users\Ната\Desktop\Фоны осень\img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Box 3"/>
          <p:cNvSpPr/>
          <p:nvPr/>
        </p:nvSpPr>
        <p:spPr>
          <a:xfrm>
            <a:off x="179280" y="549360"/>
            <a:ext cx="83534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Цель программы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– раскрытие поэтических и литературных способностей учащихся; формирование навыков поэтической и писательской деятельности; развитие коммуникативной компетен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Задач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- обеспечить создание речевых ситуац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- обеспечить правильное усвоение учениками достаточного количества лексического запаса, грамматических форм, синтаксических конструкци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- активизировать употребление изобразительно-выразительных средств язы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- создать в классе атмосферу высокой культуры ре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4"/>
          <p:cNvSpPr/>
          <p:nvPr/>
        </p:nvSpPr>
        <p:spPr>
          <a:xfrm>
            <a:off x="250920" y="4653000"/>
            <a:ext cx="856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грамма предназначена для обучающихся 3-4 классов. Она рассчитана на 2 года обучения (68 часов по 34 часа в год). Отличительной особенностью моей программы является учет возрастных особенностей учащихся, использование краеведческого материа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Users\Ната\Desktop\Фоны осень\img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Заголовок 1"/>
          <p:cNvSpPr/>
          <p:nvPr/>
        </p:nvSpPr>
        <p:spPr>
          <a:xfrm>
            <a:off x="0" y="189000"/>
            <a:ext cx="8820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  <a:ea typeface="Arial"/>
              </a:rPr>
              <a:t>Процесс обучения стихосложен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  <a:ea typeface="Arial"/>
              </a:rPr>
              <a:t>включает в себя 3 бло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8"/>
          <p:cNvSpPr/>
          <p:nvPr/>
        </p:nvSpPr>
        <p:spPr>
          <a:xfrm>
            <a:off x="324000" y="1557360"/>
            <a:ext cx="8423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84807"/>
                </a:solidFill>
                <a:latin typeface="Calibri"/>
              </a:rPr>
              <a:t>Теоретический блок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изучение видов поэтических произведений, выразительных средств, истории писательских организаций нашей мест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84807"/>
                </a:solidFill>
                <a:latin typeface="Calibri"/>
              </a:rPr>
              <a:t>Практическом блок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создание и написание стихов на различные темы, их редактирование, умение сделать подборку стихотворений для печати, выпуск поэтических сборников и журна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84807"/>
                </a:solidFill>
                <a:latin typeface="Calibri"/>
              </a:rPr>
              <a:t>Публичный блок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ступление и участие в различных мероприятиях: поэтических гостиных, конференциях, конкурсах,  концертах, фестивал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C:\Users\Ната\Desktop\Фоны осень\img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"/>
          <p:cNvPicPr/>
          <p:nvPr/>
        </p:nvPicPr>
        <p:blipFill>
          <a:blip r:embed="rId2"/>
          <a:stretch/>
        </p:blipFill>
        <p:spPr>
          <a:xfrm>
            <a:off x="108000" y="2781360"/>
            <a:ext cx="4689360" cy="3168720"/>
          </a:xfrm>
          <a:prstGeom prst="rect">
            <a:avLst/>
          </a:prstGeom>
          <a:ln w="9360">
            <a:solidFill>
              <a:srgbClr val="e46c0a"/>
            </a:solidFill>
            <a:miter/>
          </a:ln>
        </p:spPr>
      </p:pic>
      <p:pic>
        <p:nvPicPr>
          <p:cNvPr id="70" name="Picture 3" descr=""/>
          <p:cNvPicPr/>
          <p:nvPr/>
        </p:nvPicPr>
        <p:blipFill>
          <a:blip r:embed="rId3"/>
          <a:stretch/>
        </p:blipFill>
        <p:spPr>
          <a:xfrm rot="4675200">
            <a:off x="224280" y="1212120"/>
            <a:ext cx="3506760" cy="2463480"/>
          </a:xfrm>
          <a:prstGeom prst="rect">
            <a:avLst/>
          </a:prstGeom>
          <a:ln w="9360">
            <a:solidFill>
              <a:srgbClr val="e46c0a"/>
            </a:solidFill>
            <a:miter/>
          </a:ln>
        </p:spPr>
      </p:pic>
      <p:sp>
        <p:nvSpPr>
          <p:cNvPr id="71" name="Прямоугольник 4"/>
          <p:cNvSpPr/>
          <p:nvPr/>
        </p:nvSpPr>
        <p:spPr>
          <a:xfrm>
            <a:off x="3995640" y="620640"/>
            <a:ext cx="4888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В процессе первого года обучения мы выпустили коллективные рукописные сборники «Веселые дразнилки», «Времена года», «Мы – ученики», «Пожарная тревога» и др. Ребята выступали со своими стихотворениями перед первоклассниками, Советом Ветеранов, принимали участие в школьных конкурсах чтецов, концертах к Дню учителя, Дню матери, 8 марта, Дню Победы. Мы тесно сотрудничали со школьной библиотекой, МКУК «Межпоселенческая сельская библиотек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Заголовок 1"/>
          <p:cNvSpPr/>
          <p:nvPr/>
        </p:nvSpPr>
        <p:spPr>
          <a:xfrm>
            <a:off x="108000" y="6480"/>
            <a:ext cx="5148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Первый год об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7"/>
          <p:cNvSpPr/>
          <p:nvPr/>
        </p:nvSpPr>
        <p:spPr>
          <a:xfrm>
            <a:off x="104760" y="5934240"/>
            <a:ext cx="374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84807"/>
                </a:solidFill>
                <a:latin typeface="Calibri"/>
              </a:rPr>
              <a:t>Сборник «Времена года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84807"/>
                </a:solidFill>
                <a:latin typeface="Calibri"/>
              </a:rPr>
              <a:t>Авторы: ученики 3 к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:\Users\Ната\Desktop\Фоны осень\img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 rot="20463600">
            <a:off x="5447880" y="738360"/>
            <a:ext cx="3328920" cy="2304720"/>
          </a:xfrm>
          <a:prstGeom prst="rect">
            <a:avLst/>
          </a:prstGeom>
          <a:ln w="9360">
            <a:solidFill>
              <a:srgbClr val="e46c0a"/>
            </a:solidFill>
            <a:miter/>
          </a:ln>
        </p:spPr>
      </p:pic>
      <p:pic>
        <p:nvPicPr>
          <p:cNvPr id="76" name="Picture 2" descr=""/>
          <p:cNvPicPr/>
          <p:nvPr/>
        </p:nvPicPr>
        <p:blipFill>
          <a:blip r:embed="rId3"/>
          <a:stretch/>
        </p:blipFill>
        <p:spPr>
          <a:xfrm>
            <a:off x="5164200" y="2924280"/>
            <a:ext cx="3744720" cy="2676600"/>
          </a:xfrm>
          <a:prstGeom prst="rect">
            <a:avLst/>
          </a:prstGeom>
          <a:ln w="9360">
            <a:solidFill>
              <a:srgbClr val="e46c0a"/>
            </a:solidFill>
            <a:miter/>
          </a:ln>
        </p:spPr>
      </p:pic>
      <p:sp>
        <p:nvSpPr>
          <p:cNvPr id="77" name="TextBox 5"/>
          <p:cNvSpPr/>
          <p:nvPr/>
        </p:nvSpPr>
        <p:spPr>
          <a:xfrm>
            <a:off x="0" y="660240"/>
            <a:ext cx="604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Во второй год обучения происходит усложнение тем и способов написания, используются различные варианты рифмы, ученики пробуют себя в написании песен, лирических и патриотических стих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6"/>
          <p:cNvSpPr/>
          <p:nvPr/>
        </p:nvSpPr>
        <p:spPr>
          <a:xfrm>
            <a:off x="250920" y="2492280"/>
            <a:ext cx="45720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За этот период нами был выпущен коллективный сборник «Что лежит в твоем портфеле?», подготовлен творческий проект «Живи, книга!», который занял 2 место в муниципальном конкурсе проектов «Мой мир».  Каждый из детей создал свой индивидуальный поэтический сборник. Рамки публичных выступлений расширились за пределы школы, ребята стали выступать на поселковых, городских и районных мероприятия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Заголовок 1"/>
          <p:cNvSpPr/>
          <p:nvPr/>
        </p:nvSpPr>
        <p:spPr>
          <a:xfrm>
            <a:off x="1258920" y="42840"/>
            <a:ext cx="514836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Второй год об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9"/>
          <p:cNvSpPr/>
          <p:nvPr/>
        </p:nvSpPr>
        <p:spPr>
          <a:xfrm>
            <a:off x="5003640" y="5732640"/>
            <a:ext cx="374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84807"/>
                </a:solidFill>
                <a:latin typeface="Calibri"/>
              </a:rPr>
              <a:t>Сборник «Что лежит в твоём портфеле?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84807"/>
                </a:solidFill>
                <a:latin typeface="Calibri"/>
              </a:rPr>
              <a:t>Авторы: ученики 4  к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C:\Users\Ната\Desktop\Фоны осень\img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5796000" y="1125360"/>
            <a:ext cx="2504880" cy="3356280"/>
          </a:xfrm>
          <a:prstGeom prst="rect">
            <a:avLst/>
          </a:prstGeom>
          <a:ln w="9360">
            <a:solidFill>
              <a:srgbClr val="e46c0a"/>
            </a:solidFill>
            <a:miter/>
          </a:ln>
        </p:spPr>
      </p:pic>
      <p:pic>
        <p:nvPicPr>
          <p:cNvPr id="83" name="Picture 3" descr=""/>
          <p:cNvPicPr/>
          <p:nvPr/>
        </p:nvPicPr>
        <p:blipFill>
          <a:blip r:embed="rId3"/>
          <a:stretch/>
        </p:blipFill>
        <p:spPr>
          <a:xfrm rot="718200">
            <a:off x="6058080" y="2790720"/>
            <a:ext cx="2550960" cy="3490920"/>
          </a:xfrm>
          <a:prstGeom prst="rect">
            <a:avLst/>
          </a:prstGeom>
          <a:ln w="9360">
            <a:solidFill>
              <a:srgbClr val="e46c0a"/>
            </a:solidFill>
            <a:miter/>
          </a:ln>
        </p:spPr>
      </p:pic>
      <p:pic>
        <p:nvPicPr>
          <p:cNvPr id="84" name="Picture 6" descr=""/>
          <p:cNvPicPr/>
          <p:nvPr/>
        </p:nvPicPr>
        <p:blipFill>
          <a:blip r:embed="rId4"/>
          <a:stretch/>
        </p:blipFill>
        <p:spPr>
          <a:xfrm rot="20139600">
            <a:off x="499680" y="318960"/>
            <a:ext cx="2171880" cy="2895840"/>
          </a:xfrm>
          <a:prstGeom prst="rect">
            <a:avLst/>
          </a:prstGeom>
          <a:ln w="9360">
            <a:solidFill>
              <a:srgbClr val="984807"/>
            </a:solidFill>
            <a:miter/>
          </a:ln>
        </p:spPr>
      </p:pic>
      <p:pic>
        <p:nvPicPr>
          <p:cNvPr id="85" name="Picture 5" descr=""/>
          <p:cNvPicPr/>
          <p:nvPr/>
        </p:nvPicPr>
        <p:blipFill>
          <a:blip r:embed="rId5"/>
          <a:stretch/>
        </p:blipFill>
        <p:spPr>
          <a:xfrm rot="1186200">
            <a:off x="1939680" y="1060560"/>
            <a:ext cx="2949480" cy="1985760"/>
          </a:xfrm>
          <a:prstGeom prst="rect">
            <a:avLst/>
          </a:prstGeom>
          <a:ln w="9360">
            <a:solidFill>
              <a:srgbClr val="984807"/>
            </a:solidFill>
            <a:miter/>
          </a:ln>
        </p:spPr>
      </p:pic>
      <p:pic>
        <p:nvPicPr>
          <p:cNvPr id="86" name="Picture 7" descr=""/>
          <p:cNvPicPr/>
          <p:nvPr/>
        </p:nvPicPr>
        <p:blipFill>
          <a:blip r:embed="rId6"/>
          <a:srcRect l="0" t="12485" r="0" b="0"/>
          <a:stretch/>
        </p:blipFill>
        <p:spPr>
          <a:xfrm>
            <a:off x="252360" y="4076640"/>
            <a:ext cx="4046760" cy="201636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pic>
        <p:nvPicPr>
          <p:cNvPr id="87" name="Picture 4" descr=""/>
          <p:cNvPicPr/>
          <p:nvPr/>
        </p:nvPicPr>
        <p:blipFill>
          <a:blip r:embed="rId7"/>
          <a:srcRect l="0" t="13151" r="0" b="0"/>
          <a:stretch/>
        </p:blipFill>
        <p:spPr>
          <a:xfrm>
            <a:off x="1908000" y="3789360"/>
            <a:ext cx="3384720" cy="190512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sp>
        <p:nvSpPr>
          <p:cNvPr id="88" name="Заголовок 1"/>
          <p:cNvSpPr/>
          <p:nvPr/>
        </p:nvSpPr>
        <p:spPr>
          <a:xfrm>
            <a:off x="1835280" y="0"/>
            <a:ext cx="5221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Произведения  ребя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в печ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826920" y="2708280"/>
            <a:ext cx="36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Школьная газет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Большая перемен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0"/>
          <p:cNvSpPr/>
          <p:nvPr/>
        </p:nvSpPr>
        <p:spPr>
          <a:xfrm>
            <a:off x="179280" y="6093000"/>
            <a:ext cx="60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йонные периодические издания «Усть-Илимскаая правда» и «Вечерний Усть-Илим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1"/>
          <p:cNvSpPr/>
          <p:nvPr/>
        </p:nvSpPr>
        <p:spPr>
          <a:xfrm>
            <a:off x="5580000" y="333360"/>
            <a:ext cx="35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Детский журна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«Сибирячо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C:\Users\Ната\Desktop\Фоны осень\img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250920" y="476280"/>
          <a:ext cx="8712000" cy="6192720"/>
        </p:xfrm>
        <a:graphic>
          <a:graphicData uri="http://schemas.openxmlformats.org/drawingml/2006/table">
            <a:tbl>
              <a:tblPr/>
              <a:tblGrid>
                <a:gridCol w="614160"/>
                <a:gridCol w="3741840"/>
                <a:gridCol w="2178000"/>
                <a:gridCol w="2178000"/>
              </a:tblGrid>
              <a:tr h="3636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звание меропри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амилия участ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зульт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0936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стной конкурс литературного творчества детей «Мир, в котором я хочу жить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жевников И., 3 кл.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Щербак ., 3 к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лагодар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лагодар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4572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униципальный конкурс «Рождественский карнавал», номинация «Выразительное чтение и актерское мастерство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жевников И., 4 к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ликов В., 4 к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мест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мест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0922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стной конкурс творческих работ «Голоса отваги», номинация «Синий платочек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усева А., 4 к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ипл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0936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йонный экологический фестиваль «Приглашаем в Экоград всех девчонок и ребят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лектив 4 «А» клас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лагодарственное письм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0922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униципальный конкурс творческих работ «Пожарные – это люди отважной профессии!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ицкая А., 4 к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лектив 4 «А» клас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мест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мест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  <p:sp>
        <p:nvSpPr>
          <p:cNvPr id="94" name="Заголовок 1"/>
          <p:cNvSpPr/>
          <p:nvPr/>
        </p:nvSpPr>
        <p:spPr>
          <a:xfrm>
            <a:off x="4067280" y="0"/>
            <a:ext cx="4825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Наши успех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5"/>
          <p:cNvSpPr/>
          <p:nvPr/>
        </p:nvSpPr>
        <p:spPr>
          <a:xfrm>
            <a:off x="3276720" y="6458040"/>
            <a:ext cx="32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другие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C:\Users\Ната\Desktop\Фоны осень\img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http://www.370103.ru/_nw/5/74098803.jpg"/>
          <p:cNvPicPr/>
          <p:nvPr/>
        </p:nvPicPr>
        <p:blipFill>
          <a:blip r:embed="rId2"/>
          <a:stretch/>
        </p:blipFill>
        <p:spPr>
          <a:xfrm>
            <a:off x="179280" y="1628640"/>
            <a:ext cx="3076560" cy="2305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http://zhd-school1.ucoz.ru/_nw/4/s01697041.jpg"/>
          <p:cNvPicPr/>
          <p:nvPr/>
        </p:nvPicPr>
        <p:blipFill>
          <a:blip r:embed="rId3"/>
          <a:stretch/>
        </p:blipFill>
        <p:spPr>
          <a:xfrm>
            <a:off x="250920" y="4508640"/>
            <a:ext cx="3132000" cy="2143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2" descr="http://zhd-school1.ucoz.ru/_nw/4/54454488.jpg"/>
          <p:cNvPicPr/>
          <p:nvPr/>
        </p:nvPicPr>
        <p:blipFill>
          <a:blip r:embed="rId4"/>
          <a:stretch/>
        </p:blipFill>
        <p:spPr>
          <a:xfrm>
            <a:off x="5867280" y="1557360"/>
            <a:ext cx="3097440" cy="22446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8" descr="http://zhd-school1.ucoz.ru/_nw/3/s16526887.jpg"/>
          <p:cNvPicPr/>
          <p:nvPr/>
        </p:nvPicPr>
        <p:blipFill>
          <a:blip r:embed="rId5"/>
          <a:stretch/>
        </p:blipFill>
        <p:spPr>
          <a:xfrm>
            <a:off x="3132000" y="836640"/>
            <a:ext cx="2746440" cy="20462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6" descr="http://zhd-school1.ucoz.ru/_nw/4/s44232228.jpg"/>
          <p:cNvPicPr/>
          <p:nvPr/>
        </p:nvPicPr>
        <p:blipFill>
          <a:blip r:embed="rId6"/>
          <a:stretch/>
        </p:blipFill>
        <p:spPr>
          <a:xfrm>
            <a:off x="5867280" y="4365720"/>
            <a:ext cx="3073680" cy="2303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0" descr="http://zhd-school1.ucoz.ru/_nw/3/s92509560.jpg"/>
          <p:cNvPicPr/>
          <p:nvPr/>
        </p:nvPicPr>
        <p:blipFill>
          <a:blip r:embed="rId7"/>
          <a:stretch/>
        </p:blipFill>
        <p:spPr>
          <a:xfrm>
            <a:off x="3276720" y="3440160"/>
            <a:ext cx="2563560" cy="3417840"/>
          </a:xfrm>
          <a:prstGeom prst="rect">
            <a:avLst/>
          </a:prstGeom>
          <a:ln w="0">
            <a:noFill/>
          </a:ln>
        </p:spPr>
      </p:pic>
      <p:sp>
        <p:nvSpPr>
          <p:cNvPr id="103" name="Заголовок 1"/>
          <p:cNvSpPr/>
          <p:nvPr/>
        </p:nvSpPr>
        <p:spPr>
          <a:xfrm>
            <a:off x="0" y="189000"/>
            <a:ext cx="8893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Публичные выступ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0"/>
          <p:cNvSpPr/>
          <p:nvPr/>
        </p:nvSpPr>
        <p:spPr>
          <a:xfrm>
            <a:off x="0" y="386064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Свободный микрофон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чтение авторских стих-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1"/>
          <p:cNvSpPr/>
          <p:nvPr/>
        </p:nvSpPr>
        <p:spPr>
          <a:xfrm>
            <a:off x="2987640" y="278136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частница област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нкурса чтец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2"/>
          <p:cNvSpPr/>
          <p:nvPr/>
        </p:nvSpPr>
        <p:spPr>
          <a:xfrm>
            <a:off x="5867280" y="83664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зентация книги А. Обрезк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3"/>
          <p:cNvSpPr/>
          <p:nvPr/>
        </p:nvSpPr>
        <p:spPr>
          <a:xfrm>
            <a:off x="0" y="83664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Школь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нкурс чтец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4"/>
          <p:cNvSpPr/>
          <p:nvPr/>
        </p:nvSpPr>
        <p:spPr>
          <a:xfrm>
            <a:off x="5651640" y="3716280"/>
            <a:ext cx="34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Выступление к Дню Побе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в школьной библиоте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Записанный звук" descr=""/>
          <p:cNvPicPr/>
          <p:nvPr/>
        </p:nvPicPr>
        <p:blipFill>
          <a:blip r:embed="rId8"/>
          <a:stretch/>
        </p:blipFill>
        <p:spPr>
          <a:xfrm>
            <a:off x="324000" y="4581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10" name="Записанный звук" descr=""/>
          <p:cNvPicPr/>
          <p:nvPr/>
        </p:nvPicPr>
        <p:blipFill>
          <a:blip r:embed="rId9"/>
          <a:stretch/>
        </p:blipFill>
        <p:spPr>
          <a:xfrm>
            <a:off x="8532720" y="4437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18"/>
          <p:cNvSpPr/>
          <p:nvPr/>
        </p:nvSpPr>
        <p:spPr>
          <a:xfrm>
            <a:off x="0" y="4581360"/>
            <a:ext cx="1116000" cy="5202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ключи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ву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1"/>
          <p:cNvSpPr/>
          <p:nvPr/>
        </p:nvSpPr>
        <p:spPr>
          <a:xfrm>
            <a:off x="7812000" y="4365720"/>
            <a:ext cx="1116000" cy="5202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ключить зву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2718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69918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9T13:54:58Z</dcterms:created>
  <dc:creator>Ната</dc:creator>
  <dc:description/>
  <dc:language>en-US</dc:language>
  <cp:lastModifiedBy>Наталья -ПК</cp:lastModifiedBy>
  <dcterms:modified xsi:type="dcterms:W3CDTF">2024-05-12T23:41:49Z</dcterms:modified>
  <cp:revision>21</cp:revision>
  <dc:subject/>
  <dc:title>Слайд 1</dc:title>
</cp:coreProperties>
</file>